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EAC6-F8C0-497F-880D-0A7C68CDB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slides 23 through 26 with your participants so they know what options they can choose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roject from an exist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ject (slide 23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a new project from scratch (slides 24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eam IDs with the wizar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specialized team IDs (slide 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go more in-depth into these in a few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357F-858E-42FD-BE5F-3F109FDD0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2009-DF6E-47A3-930D-669CE98F5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37D3-D67E-431A-A0A6-23D003AC9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F9C0-CDF1-4B5E-AB3C-A4DC67A13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00E8-7ECC-4F5B-8511-5CB183445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C3FB-E8F2-41BD-B5A8-32EDEDF414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E316-A4A2-48E0-8D21-B48B907192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BE30-537C-468C-9800-19491DB225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B7AC-766F-46BD-B044-7E766C0ACF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EEC4-56AD-456F-B2BB-FEFAE4431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64A8-A46B-4327-85B9-E8A961A854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35BD-6FF1-4C9B-A45B-02FD202C7F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4668-7CD4-4BA2-BE2F-1ED4CCB3CF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BD9C-181C-4EC8-A063-5BEA0A2080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51EB-8D28-4765-9521-665709E6E4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D9CB-2443-4DA5-A1A3-FF45D03CD4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1E10-5E3A-48AB-9AB0-0DA61DC3B7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3AB2-FBDB-412C-8FFC-499123783F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D70F-0110-41B2-8BF8-06851E03DB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59D4-6373-4FB9-BD74-8EBEA2515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BA8E-D113-46BA-B005-C56193D6D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D026-CE27-4499-AD84-C49F2B43E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3763-00AC-40DE-8A21-BADB3E4CB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D3D5-AA2D-4744-B229-FBC175B7D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66D-7BFD-447C-B6C2-8D35191E67E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704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160C-3C0B-4832-B5D6-2187553FF29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9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tting Up Expectations for an Argum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06–9.0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stand the parts of an argume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aim: What you are trying to prove or persu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idence: Facts or data that support or oppose a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ty of the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the source reliable and credible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accurate is the eviden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rength of the evidence to support or oppose the clai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soning for why the evidence supports or opposes the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6AC3-8A3B-4EDD-955A-E85196EC95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8: Using the Showing Evidence Tool to Target Thinking Skills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Reviewing a Sample Cas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9.09–9.1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Summary and Curriculum-Framing Ques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b site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 Ex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Case of the Mysterious Malad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questions with a partn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EEF9-34B9-4C0E-8F47-405EA0F62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Discussing Rating Rubric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1–9.1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Evaluation of Evidence Qualit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 page 9.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would this rubric help students to better rate and evaluate eviden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types of elements you would want to include in a rubric for your own subject area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Evaluation of the Evidence Strength on page 9.1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would this rubric help students build a better argument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is important about evidence that opposes a clai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other criteria and qualifiers you would want to include for your own subject area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179F-246F-497D-AA9F-EC7357DE85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 Determining Acceptable Evidenc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 subject areas required different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you incorporate the idea of considering the intended audience when making an argum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lowest acceptable number of sourc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uld all evidence be consider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 you expect direct quot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ll you require a minimum number of quot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1E9B-FB5F-4EE0-AB03-44EA69FD0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6: Evaluating the Claim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6–9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Evaluation of Claim rubr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bout poor quality evidence that strongly supports a clai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bout a lot of so-so support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ould you weigh quantity in comparison to qualit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relate the process of a jury decision to the evaluation of a clai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uld you make any changes to the rubric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3882-7C3A-469E-8C13-4EE4A04EC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7: Making a Conclus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place where students can answer the case ques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other ways can the conclusion area be us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8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ewing the Benefits of the Showing Evidenc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benefits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CC19-241C-466E-BE50-9CD5A12760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432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Power of the Showing Evidenc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o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0–9.2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stand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classified by Marzano’s Dimension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70CA-C333-467A-8861-47C2A7D864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23880"/>
            <a:ext cx="8237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Understanding What Makes a Good Showing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vidence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3–9.2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elps student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alyz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ook at the big pictu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search hypothe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ook at different perspectiv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vestigate social issu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valuate credibil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rganize ide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bate controversial issu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corporat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lements of a controversial issue, debatable topic, or moral or ethical dilemm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gaging, thought provoking, and open-ended questions or ide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pportunities for exploring conflicting eviden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A83A-76F8-4F2C-B954-8F4B578FBD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Viewing Sample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 Ex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Romeo and Julie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ore the live version of this ca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time is available, review any additional example projects on your ow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62D5-7E08-4972-99E7-9A45470D32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Thinking About Your Uni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9.2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rainstorm Idea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skimming Web sites for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list of possible 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354D-5066-4569-B7E7-97AA777E06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838080"/>
          <a:ext cx="8610840" cy="4734000"/>
        </p:xfrm>
        <a:graphic>
          <a:graphicData uri="http://schemas.openxmlformats.org/drawingml/2006/table">
            <a:tbl>
              <a:tblPr/>
              <a:tblGrid>
                <a:gridCol w="1833840"/>
                <a:gridCol w="677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2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ing Standards-Based Pro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3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ing Curriculum-Framing Questions to Suppor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4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5: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35080" indent="-235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 a practice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eing Rea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ausal m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35080" indent="-235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cuss and practice effective questioning techniq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35080" indent="-235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e and receive feedback on project ide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88AE-C8E8-4890-9783-7607BD888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Showing Evidenc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Needs of Your Uni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7–9.2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“Habits of Learning Taxonomy.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tandards you identified as ones that could possibly benefit from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f you do not believ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howing Evidence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uld be a good fit for your unit, you will have the opportunity to try out an idea for a different unit during this module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6800-D348-419E-A4B2-F91DC93DC9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787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Viewing Sample Project Descriptions an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pt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8–9.30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examples for how to write your 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-Light"/>
              </a:rPr>
              <a:t>For more examples, see ideas in Appendix 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380880" y="482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                 Showing Evidenc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0CBE-6FD4-4FD2-B23D-C663A5C72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9440" y="48708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Idea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– Module 9.32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828800"/>
            <a:ext cx="853452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ideas for a project incorporat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feedback on ways to target higher-order think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FA93-A1A1-4EB4-BD48-CE8F2BA0CC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5848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8288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onsidering How Best to Use the 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33–9.3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can use one of two usage models as they evaluate claims and evidenc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age Model 1: Create claims and support with eviden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age Model 2: Analyze evidence to make a claim or form a hypo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47B3-C8AC-4AAA-B4C4-65229BA564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Creating a Showing Evidence Project from a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Existing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34–9.3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project wizard to copy an existing proj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Curriculum-Framing Questions, project priorities, and the Project Reflection Checklist, and then edit the project onli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 the details into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Steps 3 through 5 to create a new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(see next two slides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80AE-EE04-4A45-B8F9-FC0CA6916F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Creating Your Own Project Description     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Promp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36–9.3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Unit Plan template and review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riculum-Framing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priorities on pages 2.20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2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Reflection Checklist on page 10.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Rubric on page 2.18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1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the Project Description and Prompt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your map or type them directly into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f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se is not appropriate for your unit, use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hinking Tools, Seeing Reason Tool Resource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der on the Curriculum Resource C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CFB5-B590-4E97-82B7-EEB63FF7AD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Planning Your Use of Showing Evidenc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3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the following to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c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Descrip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mp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spcBef>
                <a:spcPts val="10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nking Tools, Seeing Reason Tool Resourc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der on the Curriculum Resource C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9C98-D90F-4FE5-92D4-CFA8C0070E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 Creating a New Showing Evidence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38–9.3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te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er Workspa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your teacher ID and password,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i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Manage Projects section,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t up a new Showing Evidence projec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90AA-3FC4-4CDA-8350-0236DA41F6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6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Teams IDs with the Project Wizar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3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low instructions to use the project wizard to create team I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t least two teams for the practice pro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ign a reviewing tea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ep 7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reating Specialized Student Team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4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low instructions to enter team IDs individual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t least two teams for the practice pro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ign a reviewing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fter creating team IDs, record your team IDs and password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79B0-64C1-45EB-93E1-A843316EF3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8: Using the Showing Evidence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5760" y="1371600"/>
          <a:ext cx="8237520" cy="419112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9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69756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earch shows that, regardless of grade level or subject, argumentation skills extend learning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argument model used by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onsists of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a clai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ng the quality of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explicit links between a claim and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reasoning for why evidence supports a cla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counterargu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a conclu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2FF7-8B61-40F0-9378-690E949FA1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9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howing Evidence Tool to Target 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stand how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upports the argumentation pro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and rate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for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56CF-1029-4B8C-A607-3A17448FE2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0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idering the Showing Evidence Tool for Your Uni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effective questioning techniqu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cases and Unit Pl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xperie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1904-BDED-493A-AC0F-9347985FA5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5792-7D67-4719-A7D0-1A15BD0AC7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1066680"/>
          <a:ext cx="8237520" cy="1539720"/>
        </p:xfrm>
        <a:graphic>
          <a:graphicData uri="http://schemas.openxmlformats.org/drawingml/2006/table">
            <a:tbl>
              <a:tblPr/>
              <a:tblGrid>
                <a:gridCol w="1830240"/>
                <a:gridCol w="6407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3AFF-4085-4580-984F-F7F823D18D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9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howing Evidence Tool to Target 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667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view and discuss a unit that integrates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the format of an argument and how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supports the argumentation proces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how to review and rate evidence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iew and discuss ideas for incorporating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nto your uni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roject onlin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4156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F7B1-EEEF-4935-BD57-DA5B894C4D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howing Evidence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onsidering Argumentation in the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01–9.0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pares students for real-world probl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lps students develop higher-order thinking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reases students’ content knowled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courages thoughtful student discu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CDFF-3F3F-4966-91A3-B9BA1314EE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howing Evidence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Taking a Look at the Format of an Argum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02–9.0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ai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iden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ty of eviden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nks between the claim and eviden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soning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nterargu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2613-13CB-4364-A744-3983CC15C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howing Evidence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ok Closely at Your Showing Evidence Cas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04–9.0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 on the elements of an argument and discuss your initial experience with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ool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nformation would you have liked to know prior to starting your work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what ways did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help you to refine and evaluate your idea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F665-DBDA-47C1-9850-7939964EC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Thinking About Your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0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do your students engage in argumentatio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 what points do they have problems in creating and supporting a clear argum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D458-A3E4-440F-9395-1630CF8C6B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mjmillhX</cp:lastModifiedBy>
  <dcterms:modified xsi:type="dcterms:W3CDTF">2008-04-01T18:28:22Z</dcterms:modified>
  <cp:revision>852</cp:revision>
  <dc:subject/>
  <dc:title>Slide 1</dc:title>
</cp:coreProperties>
</file>